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897-6E50-4CE0-AC0B-F783A3D1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216-8FF0-476C-8F77-5775A1D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A4E-0AB0-4C69-8326-CD0237C5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1A7-528C-4A98-AB13-1BD00730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7EFE-12AB-4173-8278-3B18230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917-D641-41E4-B9E0-31637A6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C4EC-4CE3-4CEE-8813-554604E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99B-AE94-4DB9-87A4-2D65B0B6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5CF-9A48-42F4-8695-199AA65F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C2E5-CE94-4E1B-BC6D-9D801EFB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DC3A-B617-482A-8C83-1488B97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AF1-DD2F-4F36-9C08-DC5B7670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35D-F472-4DE3-BC4B-F7D98FE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063-7544-4646-91A2-3A6D999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207-CED8-4525-8CC7-4217B30E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55F2-22ED-4336-A397-A7A4CC4E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3E6A-C7C4-41B3-AD7C-C5F05665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64C-A6E4-4111-83A6-4C2F9A1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921-BA92-452A-8322-BEB974F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769-C5D1-420D-8CB0-626DE7F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B7A-515C-474D-A790-7985895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7F0-55F9-42FE-B48D-AE2C1FE7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9B0-9B01-4A4C-AB64-CF9CD77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8E9-C240-45F0-ABF4-1DA5B2C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15B7-D278-4C24-8169-2E3455092E0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1E5-813B-429E-AD74-8524088333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42Z</dcterms:modified>
  <cp:revision>20</cp:revision>
  <dc:subject/>
  <dc:title>幻灯片 1</dc:title>
</cp:coreProperties>
</file>